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A26-0A39-451F-8A19-F9BCCFF6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3AD-6670-45BB-BE7F-4EEFA8F2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A64-520B-4C4B-8C7B-7D904CFB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DC7-24E1-4D2E-90FD-35FB634D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9A8-7538-498E-9898-5496B5B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050-C459-408A-8B30-1D80960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F0A-F9DE-40AC-BF3A-6E107503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C47-458C-4539-82C8-E921EF1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8F2-5F44-4225-8754-ED6D31EB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F3C-2865-4E16-9C8B-60F6BCF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159-D08E-4B9D-B9B9-FFDE51D1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9B5-3811-4F95-A5BA-9B5D1C8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E9A-01CF-4A7F-8382-53652FC50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Zumbi_dos_Palmares" TargetMode="External"/><Relationship Id="rId3" Type="http://schemas.openxmlformats.org/officeDocument/2006/relationships/hyperlink" Target="http://pt.wikipedia.org/wiki/1695" TargetMode="External"/><Relationship Id="rId4" Type="http://schemas.openxmlformats.org/officeDocument/2006/relationships/hyperlink" Target="http://pt.wikipedia.org/wiki/1594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 Consciência Neg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Falar-se em "Consciência Negra", é algo que deve ser buscado em suas origens.</a:t>
            </a:r>
            <a:br>
              <a:rPr sz="2400"/>
            </a:b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Os negros foram violentamente arrancados de seu torrão natal.</a:t>
            </a:r>
            <a:br>
              <a:rPr sz="2400"/>
            </a:b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A violência sofrida fez com que se apegassem às suas origens, aos seus deuses, às suas crenças, como uma espécie de defesa contra as violências a que sempre foram submetidos. A data foi escolhida por coincidir com o dia da morte de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umbi dos Palmares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, em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695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. Apesar das várias dúvidas levantadas quanto ao caráter de Zumbi nos últimos anos (comprovou-se, por exemplo, que ele mantinha escravos particulares) o Dia da Consciência Negra procura ser uma data para se lembrar a resistência do negro à escravidão de forma geral, desde o primeiro transporte forçado de africanos para o solo brasileiro (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94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Alunos : Anderson e Marcos  n° : 02 e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Prof: Nil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33ff"/>
                </a:solidFill>
                <a:latin typeface="Arial"/>
              </a:rPr>
              <a:t>Serie : 7 ° “ B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52:17Z</dcterms:created>
  <dc:creator>SEDMS</dc:creator>
  <dc:description/>
  <dc:language>en-US</dc:language>
  <cp:lastModifiedBy>administradorr</cp:lastModifiedBy>
  <dcterms:modified xsi:type="dcterms:W3CDTF">2010-11-09T17:51:59Z</dcterms:modified>
  <cp:revision>3</cp:revision>
  <dc:subject/>
  <dc:title>A Consciência Negra</dc:title>
</cp:coreProperties>
</file>